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33F-4718-48B2-83C4-688E50F2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79A-4251-46CF-8395-0B5F916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429-C3D2-497E-A0D5-81E521DE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B4F-3119-4877-82CA-C4A4931F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AA43-9C2D-43D3-B867-A5D5A7C5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A7F-D395-455B-B7EF-5E2B474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B725-7F48-4763-9915-7801FBF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9C46-06D2-4AF1-B960-8F44977C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3BE2-4C38-4638-AEFE-89F5525D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FAD6-E115-44A0-89C7-766544B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901F-4A5A-4F43-87B9-66F5662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66B-812F-4DB7-9DF2-4CBFCFEA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5CAE-F038-4948-A685-AC3F00A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135-C461-4EB4-8439-8D5EF40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F61-BD5D-49AA-8795-D417920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518-ADFD-4834-A9BC-B0FC4659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834-1EB7-40B5-9127-86B9EB10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E2F9-34CC-495F-BD6A-5A62AA5D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1BE3-9A6A-47EA-B993-6287C42D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EEAA-F2EF-41BA-84B6-521569C1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B52F-197A-4AF7-97E8-B34C82D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E724-E7D6-4D05-89FB-FF61AD3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472-A775-4FDA-88A2-9FB5EE5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92F3-4561-405C-8656-293C2E15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B523-E6AE-444C-91A3-93350FA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EC0A-698C-4FE1-9397-2B5DD97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75C4-B654-46AD-A6AD-D0BCEA5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8BFF-F59B-467A-9616-78B5130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CAE4-4B47-4084-9A8A-ED7C1470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0315-C6A8-490A-9ED8-84B6B308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C4D8-81A4-4CB0-9DC3-D853A8AF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F81C-4B56-4A9B-AFA7-98393365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D662-7EB7-497D-B974-C4B1BB17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C57-2AF9-4120-9A0E-94995773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FEFC-D5BD-4F90-ACA6-396D544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5E3E-E9CD-400D-A571-BB06FAB1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68D9-D053-4365-A509-A14688DA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CC65-2BB3-4BF9-B70B-D85DF11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C2D1-E354-432A-BA25-44E5F343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0EBA-EEA5-4F45-9835-63CCACF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DB97-1771-46D8-97FC-C1D7B70F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AC1A-1793-4D8D-ACF9-BBB33B11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C9FE-85D7-4BBA-BBCD-8CE3C43E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9CDC-9AD8-42E3-B839-7B245BBC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32B-7AD9-485E-842B-5540EC8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60F6-DE78-40F8-913E-5AC128B8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48FF-58DC-4D42-A5B4-1D454405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32BA4-A0B2-4B4B-A018-BE543292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AF0B3-6E15-40F4-A52C-FC7C6231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9E58A-64CC-4C70-82E2-9192824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6CFF0-B421-41DB-818F-6B1DD62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D7E0-A9C2-4B05-B79F-69EC28E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ABC9A-E4FD-4134-8902-8DF93014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89ED-66C3-45EF-BC88-49924442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8901-CB90-4811-8492-CB8DB16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B2E-2108-4CF9-B8E5-63472813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CA39-13FB-4E36-8366-C606D496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641BA-F62B-4FAB-B71C-92C7BC5C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4A53-DCAA-4A05-B143-4226ED1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1AF6-48BF-4586-B2F7-6E4BB7D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988B-BF04-4E70-B417-AA2216D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ECE0-9EE2-4718-976A-D2FFA17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8C55-93ED-44F2-BB52-54234B6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BA8B-CC2B-406C-98F8-01EC5F6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D08A-E58C-4F02-8956-8BA8C22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75061-2579-4DA7-B598-5D17322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DC9-1A9B-4BB6-9322-70204CA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91DB1-7ACD-424D-AC8E-BE103434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EF81-3BA1-4B6D-8E19-0A00F224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D1F2-09AE-4949-9E2C-96A5F74D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FF88E-F2E8-446F-80B6-26334374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12A1-6B6F-4C89-8473-CE5150B5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020D-D001-40A0-9903-0B6D19B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1326-832C-4412-BC05-5AC1FF58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2A75C-1EEE-43D9-A26D-5C46D2DD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B5EB-2E80-49CA-AF13-00B09DE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B567-DA9C-424C-8435-B0E0BD7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840-B6EE-4616-A01C-B144E84E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1C2A-1E0E-4259-AEDB-DD4A8D5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208E-7E34-4196-91BF-72A4223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206A-9E00-4AAF-A24E-ECC9482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DA86-456D-4CBB-BF1B-8E64EB38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AEA0-221F-42ED-BEB8-DD6B68AE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9E8-B82C-46DC-A660-1E134886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FE5-9D60-464F-8309-62D1972D615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BCB9-B5D7-4527-8E87-25BAFA800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78AC-35ED-4A57-9978-1437766B5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89D-A073-4D31-91E6-FD7D1F1D814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CC1-B619-45C9-86E2-902CC852ABC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0B1-F51D-42F4-B48F-5352627741A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F49-011D-4F51-A4C7-5EF73CF7078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snbc.msn.com/id/41857506/ns/business-consumer_new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ellkentucky.org/" TargetMode="External"/><Relationship Id="rId3" Type="http://schemas.openxmlformats.org/officeDocument/2006/relationships/hyperlink" Target="mms://video1.education.ky.gov/On-Demand2011/Teacher_2-21-2011.wmv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212760"/>
            <a:ext cx="7785000" cy="1414440"/>
          </a:xfrm>
          <a:prstGeom prst="rect">
            <a:avLst/>
          </a:prstGeom>
          <a:ln w="0">
            <a:noFill/>
          </a:ln>
        </p:spPr>
      </p:pic>
      <p:pic>
        <p:nvPicPr>
          <p:cNvPr id="304" name="corycotton's Channel.wmv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458200" cy="4757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Users\mmiddleton.WILLIAMSTOWN\AppData\Local\Microsoft\Windows\Temporary Internet Files\Content.IE5\6MS1V72I\MP900448551[1].jpg"/>
          <p:cNvPicPr/>
          <p:nvPr/>
        </p:nvPicPr>
        <p:blipFill>
          <a:blip r:embed="rId3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C:\Users\mmiddleton.WILLIAMSTOWN\AppData\Local\Microsoft\Windows\Temporary Internet Files\Content.IE5\6MS1V72I\MP900448551[1].jpg"/>
          <p:cNvPicPr/>
          <p:nvPr/>
        </p:nvPicPr>
        <p:blipFill>
          <a:blip r:embed="rId4"/>
          <a:stretch/>
        </p:blipFill>
        <p:spPr>
          <a:xfrm>
            <a:off x="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07880" y="60480"/>
            <a:ext cx="8358120" cy="1353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lly the number of stars and triangles for each characteristic at your table while discussing the characteristi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w” CHETL documents for each content area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time allows, we will look over the “new” docum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835200" y="-6480"/>
            <a:ext cx="7480080" cy="1158840"/>
          </a:xfrm>
          <a:prstGeom prst="rect">
            <a:avLst/>
          </a:prstGeom>
          <a:ln w="0">
            <a:noFill/>
          </a:ln>
        </p:spPr>
      </p:pic>
      <p:pic>
        <p:nvPicPr>
          <p:cNvPr id="335" name="fbdo.wmv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111800" cy="5334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C:\Users\mmiddleton.WILLIAMSTOWN\AppData\Local\Microsoft\Windows\Temporary Internet Files\Content.IE5\6MS1V72I\MP900448551[1].jpg"/>
          <p:cNvPicPr/>
          <p:nvPr/>
        </p:nvPicPr>
        <p:blipFill>
          <a:blip r:embed="rId3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7480440" cy="1614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228600" y="1676520"/>
            <a:ext cx="8610480" cy="487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rt out the Classroom Characteristics into two categorie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entury Classroom Characterist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entury Classroom Characterist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finished, send one person to get the answers for your table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8089560" cy="1158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685800" y="18288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Take a look at the document labeled “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G Omeg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 Century Classroom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Have discussions with your table about where we are in this continuum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Share your thoughts with the whole group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Has anyone used a resource they would like to share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ny other news you would like to share with the group concerning our work around SB1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7400"/>
          </a:xfrm>
          <a:prstGeom prst="rect">
            <a:avLst/>
          </a:prstGeom>
          <a:ln w="0">
            <a:noFill/>
          </a:ln>
        </p:spPr>
      </p:pic>
      <p:pic>
        <p:nvPicPr>
          <p:cNvPr id="347" name="Content Placeholder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1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mmiddleton.WILLIAMSTOWN\AppData\Local\Microsoft\Windows\Temporary Internet Files\Content.IE5\8N4TJ71I\MC900432605[1].png"/>
          <p:cNvPicPr/>
          <p:nvPr/>
        </p:nvPicPr>
        <p:blipFill>
          <a:blip r:embed="rId3"/>
          <a:stretch/>
        </p:blipFill>
        <p:spPr>
          <a:xfrm>
            <a:off x="3581280" y="2133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1600200" y="41911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 Applications are Due April 1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review strategies of Assessment for Learning and apply them in my classroom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provide information concerning the components of Kentucky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Highly Effective Teaching and Learning (CHETL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apply my understanding of the components and utility of CHETL at my school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determine the characteristics of 2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entury Skills and apply those characteristics to my classroom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Minute Pap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Use the half sheet of paper to answer the open ended questions and place on the front ta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A GREAT EVENING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151-174 in strategies book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Section 5 of CHETL Triangle/Star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Century Grant if intereste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 Bold… Try Something New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 Intentional about your learning target, activities, FA, etc.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msnbc.msn.com/id/41857506/ns/business-consumer_news/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discussion at your table about your thoughts after watching this vide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53352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rs. Sally Skin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licy Chang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LL Survey  </a:t>
            </a: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www.tellkentucky.or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mms://video1.education.ky.gov/On-Demand2011/Teacher_2-21-2011.wmv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B 1 Updat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2011-2012: Accountability Mod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Picture 3" descr="SSkinner.jpg"/>
          <p:cNvPicPr/>
          <p:nvPr/>
        </p:nvPicPr>
        <p:blipFill>
          <a:blip r:embed="rId4"/>
          <a:stretch/>
        </p:blipFill>
        <p:spPr>
          <a:xfrm>
            <a:off x="6858000" y="1981080"/>
            <a:ext cx="1973160" cy="2698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s\mmiddleton.WILLIAMSTOWN\AppData\Local\Microsoft\Windows\Temporary Internet Files\Content.IE5\6MS1V72I\MP900448551[1].jpg"/>
          <p:cNvPicPr/>
          <p:nvPr/>
        </p:nvPicPr>
        <p:blipFill>
          <a:blip r:embed="rId5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Review strategies of Assessment for Learning and apply them in my classroom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provide information concerning the components and utility of Kentucky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Highly Effective Teaching and Learning (CHETL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apply my understanding of the components and utility of CHETL at my school and district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determine the characteristics of 2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entury Skills and apply those characteristics to my classroom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7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vide students with a clear and understandable vision of the learning targe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examples and models of strong and weak wor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fer regular descriptive feedbac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 students to self-assess and set go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98440" y="30240"/>
            <a:ext cx="8699400" cy="1274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6858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ign lessons to focus on one learning target or aspect of quality at a ti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Look at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grade standards related to fractions.  (Please note that these are in teacher targets no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tudent friendly targets)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are these standards with the four lessons and the assessment you have on frac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Discuss with your table if the lessons and the test are congruent to the learning that is expected in the standard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 students focused revision. Practice, with feedback, during the lessons delivered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cused instruction followed by focused practi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-49320" y="371520"/>
            <a:ext cx="8778960" cy="1420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rrecting Misconcep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Multiple Choice as teaching too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Distractors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xplaining why something is wrong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atching Answer Choic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Graphic Organiz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reating Short Focused Task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ork with a Partner to Revise Weak Sample or Their Own Work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tudents Write an Explanation  of what they can do to make their product exemplary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odel for your student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activities from Chapter 5 have you tried?  How did it work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activities do you plan to try?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ve you tried something else that works and would fit with these two strategies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middle/high teachers, what did you think of the excerpt from the grading polic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One person from your table may be called on to share what your table has discuss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3:11:20Z</dcterms:created>
  <dc:creator>mmiddleton</dc:creator>
  <dc:description/>
  <dc:language>en-US</dc:language>
  <cp:lastModifiedBy>mmiddleton</cp:lastModifiedBy>
  <dcterms:modified xsi:type="dcterms:W3CDTF">2011-03-14T16:24:06Z</dcterms:modified>
  <cp:revision>107</cp:revision>
  <dc:subject/>
  <dc:title>Slide 1</dc:title>
</cp:coreProperties>
</file>